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88188" cy="10223500"/>
</p:presentation>
</file>

<file path=ppt/commentAuthors.xml><?xml version="1.0" encoding="utf-8"?>
<p:cmAuthorLst xmlns:p="http://schemas.openxmlformats.org/presentationml/2006/main">
  <p:cmAuthor id="0" name="kenzo" initials="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4-05T08:47:57.825000000" idx="1">
    <p:pos x="10" y="10"/>
    <p:text>DOUGHNUTS: Detector Of Under-Ground Hideous Neutrinos from Universe and from Terrestrial Sources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3887-C2C9-47FA-BC21-5AD86C77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8074-6B5A-43E0-9B91-7FCCD8F2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F9CB-9238-47B8-B690-82067DB4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0576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84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0576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84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D160-C74C-4ACD-A090-B018B3DA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5C3E-A88D-4513-9B3E-BD035FEB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BEE1-80D9-413D-A9EB-2A00D345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8EC7-6BBD-4FA4-8240-CFDAF877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6C967-5CFC-4F55-B59D-98DD25CF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759600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9E05-B8CD-4145-BC93-D240C903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756A-8812-4151-80D0-2494DA8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8F8B-2061-4BEC-B489-EF0639F4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C54E-F82F-4B4B-AC90-7C2DCAF8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07460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41444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1753560" indent="-226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71804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8858-E5CF-49ED-8F03-9654C7460392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 rot="16200000">
            <a:off x="-510480" y="5528160"/>
            <a:ext cx="236052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1066680"/>
            <a:ext cx="7619760" cy="0"/>
          </a:xfrm>
          <a:prstGeom prst="line">
            <a:avLst/>
          </a:prstGeom>
          <a:ln w="127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848720" cy="2736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verview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f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Hyper-Kamiokande R&amp;D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84000" y="3933720"/>
            <a:ext cx="4343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nzo NAKAMURA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EK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pril 7-9, 20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NN05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ussois, Savoie, Fran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AFB21-7D99-4923-92B0-937A3A5D02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ton Water Cherenkov Detector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a Mton water Cherenkov detector dates back to 1992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. Koshiba: “DOUGHNUTS”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hys. Rep. 220 (1992) 229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ncept of Hyper-Kamiokande was first presented at NNN99 @ SUNY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 recent write-up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K. N., Int. J. Mod. Phys. A18 (2003) 4053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458D-72FF-49F1-AB13-5DC03F0C40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is Hyper-Kamiokande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05920" cy="5842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413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ton water Cherenkov detector at Kami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10CE8-6BDA-40EA-BF31-CED8241BEF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y this design has been chosen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457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Water depth &lt; 5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(If the present 20-inch PMT or similar one will be used.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Linear dimensions for light path &lt; 1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ptimization of 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Rock stabil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Avoid sharp edges. Spherical shape is the best. 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unnel-shaped cavit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ingle Cavity or Twin Cavities?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Single Cavity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FID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/M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Comic Sans MS"/>
              </a:rPr>
              <a:t>TOTAL</a:t>
            </a:r>
            <a:r>
              <a:rPr b="0" lang="ja-JP" sz="1700" spc="-1" strike="noStrike" baseline="-25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is bett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Cost is lower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Larger area of stable rock mass needed. 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SzPct val="1308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win Cavities</a:t>
            </a:r>
            <a:endParaRPr b="0" lang="en-US" sz="22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Two detectors are independent. One detector is alive when the other is calibrated or maintained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70000"/>
              </a:lnSpc>
              <a:spcBef>
                <a:spcPts val="425"/>
              </a:spcBef>
              <a:buSzPct val="11619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mic Sans MS"/>
              </a:rPr>
              <a:t>Both cavities should be excavated at the same time. But staging scenario is possible for the later phase of the detector construction.</a:t>
            </a:r>
            <a:endParaRPr b="0" lang="en-US" sz="17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olution: Twin cavitie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F414-131B-4EC9-805A-C16131C1CB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ze of the detector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1447920"/>
            <a:ext cx="8308800" cy="5725080"/>
            <a:chOff x="380880" y="1447920"/>
            <a:chExt cx="8308800" cy="5725080"/>
          </a:xfrm>
        </p:grpSpPr>
        <p:sp>
          <p:nvSpPr>
            <p:cNvPr id="54" name=""/>
            <p:cNvSpPr/>
            <p:nvPr/>
          </p:nvSpPr>
          <p:spPr>
            <a:xfrm>
              <a:off x="2280960" y="3895920"/>
              <a:ext cx="6408720" cy="32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Fiducial volume: 39mφ×45m ×5 sections ×2 = 0.54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Inner detector volume: 43mφ×49m ×5 sections ×2 = 0.72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detector volume: 1 M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Total number of PMTs: 200,000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　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(if 2/m</a:t>
              </a: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  <a:ea typeface="HGSｺﾞｼｯｸE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GSｺﾞｼｯｸE"/>
                  <a:ea typeface="HGSｺﾞｼｯｸE"/>
                </a:rPr>
                <a:t>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80880" y="1447920"/>
              <a:ext cx="8101080" cy="3447720"/>
              <a:chOff x="380880" y="1447920"/>
              <a:chExt cx="8101080" cy="3447720"/>
            </a:xfrm>
          </p:grpSpPr>
          <p:sp>
            <p:nvSpPr>
              <p:cNvPr id="56" name=""/>
              <p:cNvSpPr/>
              <p:nvPr/>
            </p:nvSpPr>
            <p:spPr>
              <a:xfrm>
                <a:off x="599760" y="1592280"/>
                <a:ext cx="93528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78484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192480" y="1592280"/>
                <a:ext cx="934920" cy="20163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088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85600" y="144792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85600" y="3753000"/>
                <a:ext cx="75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7324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65600" y="1447920"/>
                <a:ext cx="1081080" cy="230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90196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494320" y="1592280"/>
                <a:ext cx="934920" cy="20163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7468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7468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67040" y="159228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67040" y="3608640"/>
                <a:ext cx="21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59400" y="159228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59400" y="3608640"/>
                <a:ext cx="212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1976040" y="3590640"/>
                <a:ext cx="360360" cy="50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1442520" y="3743280"/>
                <a:ext cx="86364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14300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  <a:ea typeface="HGSｺﾞｼｯｸE"/>
              </a:rPr>
              <a:t>Fiducial /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E1D2-3B83-49C3-ABE7-D9BE91262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993080" cy="554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ison of 3 Generations of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amioka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leo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c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perimen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0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　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Kamiokande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uper-Kamiokande       Hyper-Kamiokand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Mass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3,000 t                    50,000 t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　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,000,000 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　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(+1,500 t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hotosensitive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20 %             40 % (SK-I and -III)                   ?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verage                                               20 % (SK-II)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bservation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83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1996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         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?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tarted 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ost (Oku-Yen)</a:t>
            </a: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5  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00                          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　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500?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ja-JP" sz="1800" spc="-1" strike="noStrike" baseline="30000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1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ku-Yen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1M$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ja-JP" sz="1800" spc="-1" strike="noStrike" baseline="30000">
                <a:solidFill>
                  <a:srgbClr val="ff0000"/>
                </a:solidFill>
                <a:latin typeface="Comic Sans MS"/>
              </a:rPr>
              <a:t>**</a:t>
            </a:r>
            <a:r>
              <a:rPr b="0" lang="ja-JP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arget cost; No realistic estimate yet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                  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7AA8-F8A6-4454-B00A-146A63F11A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Construction Time Line</a:t>
            </a:r>
            <a:endParaRPr b="0" lang="en-US" sz="4000" spc="-1" strike="noStrike">
              <a:solidFill>
                <a:srgbClr val="0000ff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6840" y="1424160"/>
          <a:ext cx="8810640" cy="4895640"/>
        </p:xfrm>
        <a:graphic>
          <a:graphicData uri="http://schemas.openxmlformats.org/drawingml/2006/table">
            <a:tbl>
              <a:tblPr/>
              <a:tblGrid>
                <a:gridCol w="844560"/>
                <a:gridCol w="530280"/>
                <a:gridCol w="531720"/>
                <a:gridCol w="530280"/>
                <a:gridCol w="531720"/>
                <a:gridCol w="530280"/>
                <a:gridCol w="531720"/>
                <a:gridCol w="532080"/>
                <a:gridCol w="529920"/>
                <a:gridCol w="532080"/>
                <a:gridCol w="529920"/>
                <a:gridCol w="532080"/>
                <a:gridCol w="530280"/>
                <a:gridCol w="531720"/>
                <a:gridCol w="530280"/>
                <a:gridCol w="53172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  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19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HGSｺﾞｼｯｸE"/>
                          <a:ea typeface="HGSｺﾞｼｯｸE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042920" y="2492280"/>
            <a:ext cx="2737080" cy="289080"/>
          </a:xfrm>
          <a:prstGeom prst="rightArrow">
            <a:avLst>
              <a:gd name="adj1" fmla="val 50000"/>
              <a:gd name="adj2" fmla="val 2367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21000"/>
            <a:ext cx="11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2K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2852640"/>
            <a:ext cx="576360" cy="1224000"/>
          </a:xfrm>
          <a:prstGeom prst="line">
            <a:avLst/>
          </a:prstGeom>
          <a:ln w="7632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076640"/>
            <a:ext cx="5329080" cy="216000"/>
          </a:xfrm>
          <a:prstGeom prst="rightArrow">
            <a:avLst>
              <a:gd name="adj1" fmla="val 50000"/>
              <a:gd name="adj2" fmla="val 6167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29264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32720" y="4724280"/>
            <a:ext cx="611280" cy="505080"/>
          </a:xfrm>
          <a:prstGeom prst="rightArrow">
            <a:avLst>
              <a:gd name="adj1" fmla="val 50000"/>
              <a:gd name="adj2" fmla="val 302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5300640"/>
            <a:ext cx="2484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K and T2K-II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52F3-6BB7-46F9-AC59-5CE88E927B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96472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2K long baseline neutrino oscillation experiment: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nd phase, CP violation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If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measurement in the 1st phase gives only an upper limit, the 2nd phase will enhance the reach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ton dec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νK</a:t>
            </a:r>
            <a:r>
              <a:rPr b="0" lang="en-US" sz="20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nd other mode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eutrino oscillation measurements with atmospheric neutrinos: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Comic Sans MS"/>
              </a:rPr>
              <a:t>13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sgn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), sub-dominant osc., CP phase</a:t>
            </a:r>
            <a:r>
              <a:rPr b="0" lang="ja-JP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Measurements of low-energy neutrino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upernova neutrino (</a:t>
            </a:r>
            <a:r>
              <a:rPr b="0" lang="ja-JP" sz="2000" spc="-1" strike="noStrike">
                <a:solidFill>
                  <a:srgbClr val="0000ff"/>
                </a:solidFill>
                <a:latin typeface="Comic Sans MS"/>
              </a:rPr>
              <a:t>～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x10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neutrinos for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a SN at the center of the galaxy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Relic supernova neutrino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olar neutrino measurement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SzPct val="10978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ossible at the Hyper-K site (600-700 m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overburden) ? Under study.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can be done with Hyper-K ?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997360"/>
            <a:ext cx="42498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Reach:</a:t>
            </a:r>
            <a:r>
              <a:rPr b="1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ＭＳ Ｐゴシック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(e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+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ＭＳ Ｐゴシック"/>
              </a:rPr>
              <a:t>35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ＭＳ Ｐゴシック"/>
              </a:rPr>
              <a:t> yr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Comic Sans MS"/>
                <a:ea typeface="HGPｺﾞｼｯｸE"/>
              </a:rPr>
              <a:t>p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(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K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+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)/B </a:t>
            </a:r>
            <a:r>
              <a:rPr b="0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10</a:t>
            </a:r>
            <a:r>
              <a:rPr b="1" lang="en-US" sz="2000" spc="-1" strike="noStrike" baseline="30000">
                <a:solidFill>
                  <a:srgbClr val="339933"/>
                </a:solidFill>
                <a:latin typeface="Comic Sans MS"/>
                <a:ea typeface="HGPｺﾞｼｯｸE"/>
              </a:rPr>
              <a:t>34</a:t>
            </a:r>
            <a:r>
              <a:rPr b="0" lang="en-US" sz="2000" spc="-1" strike="noStrike">
                <a:solidFill>
                  <a:srgbClr val="339933"/>
                </a:solidFill>
                <a:latin typeface="Comic Sans MS"/>
                <a:ea typeface="HGPｺﾞｼｯｸE"/>
              </a:rPr>
              <a:t> yr</a:t>
            </a:r>
            <a:r>
              <a:rPr b="0" lang="en-US" sz="1800" spc="-1" strike="noStrike">
                <a:solidFill>
                  <a:srgbClr val="339933"/>
                </a:solidFill>
                <a:latin typeface="HGPｺﾞｼｯｸE"/>
                <a:ea typeface="HGPｺﾞｼｯｸE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2637000"/>
            <a:ext cx="1476360" cy="360360"/>
          </a:xfrm>
          <a:prstGeom prst="wedgeRectCallout">
            <a:avLst>
              <a:gd name="adj1" fmla="val -80861"/>
              <a:gd name="adj2" fmla="val 24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1484280"/>
            <a:ext cx="1476360" cy="432000"/>
          </a:xfrm>
          <a:prstGeom prst="wedgeRectCallout">
            <a:avLst>
              <a:gd name="adj1" fmla="val -66453"/>
              <a:gd name="adj2" fmla="val -22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obayas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07280" y="3860640"/>
            <a:ext cx="936720" cy="432000"/>
          </a:xfrm>
          <a:prstGeom prst="wedgeRectCallout">
            <a:avLst>
              <a:gd name="adj1" fmla="val -83050"/>
              <a:gd name="adj2" fmla="val -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aj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940360" y="4653000"/>
            <a:ext cx="3203640" cy="1728720"/>
            <a:chOff x="5940360" y="4653000"/>
            <a:chExt cx="3203640" cy="1728720"/>
          </a:xfrm>
        </p:grpSpPr>
        <p:sp>
          <p:nvSpPr>
            <p:cNvPr id="93" name=""/>
            <p:cNvSpPr/>
            <p:nvPr/>
          </p:nvSpPr>
          <p:spPr>
            <a:xfrm>
              <a:off x="5940360" y="4653000"/>
              <a:ext cx="503280" cy="172872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3640" y="5084640"/>
              <a:ext cx="2700360" cy="86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akahata’s study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ton water Cherenko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tectors in gerer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-28800" y="1181160"/>
            <a:ext cx="9172800" cy="6087240"/>
            <a:chOff x="-28800" y="1181160"/>
            <a:chExt cx="9172800" cy="608724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2060640" y="1181160"/>
              <a:ext cx="509580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882160" y="1360440"/>
              <a:ext cx="3658680" cy="64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2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Comic Sans MS"/>
                </a:rPr>
                <a:t>beam of ~1Ge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62640" y="2486160"/>
              <a:ext cx="15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Kami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9640" y="2995560"/>
              <a:ext cx="16488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51360" y="3033720"/>
              <a:ext cx="16524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42480" y="3235320"/>
              <a:ext cx="1175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J-PA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360" y="5635800"/>
              <a:ext cx="3759120" cy="163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 baseline="-6000">
                  <a:solidFill>
                    <a:srgbClr val="000000"/>
                  </a:solidFill>
                  <a:latin typeface="Comic Sans MS"/>
                </a:rPr>
                <a:t>disappear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25000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→ </a:t>
              </a: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e</a:t>
              </a:r>
              <a:r>
                <a:rPr b="1" lang="en-US" sz="3600" spc="-1" strike="noStrike" baseline="-6000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appea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C measur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280" y="4111560"/>
              <a:ext cx="2057400" cy="119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Comic Sans MS"/>
                </a:rPr>
                <a:t>~</a:t>
              </a:r>
              <a:r>
                <a:rPr b="1" lang="en-US" sz="2400" spc="-1" strike="noStrike">
                  <a:solidFill>
                    <a:srgbClr val="0000cc"/>
                  </a:solidFill>
                  <a:latin typeface="Comic Sans MS"/>
                </a:rPr>
                <a:t>Mt “Hyper Kamiokande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79360" y="3502080"/>
              <a:ext cx="762120" cy="60948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3645000"/>
              <a:ext cx="3492360" cy="45972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  <a:ea typeface="ＭＳ Ｐ明朝"/>
                </a:rPr>
                <a:t>0.75</a:t>
              </a:r>
              <a:r>
                <a:rPr b="1" lang="ja-JP" sz="2400" spc="-1" strike="noStrike">
                  <a:solidFill>
                    <a:srgbClr val="00ff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4000" y="4149720"/>
              <a:ext cx="884160" cy="439920"/>
            </a:xfrm>
            <a:prstGeom prst="downArrow">
              <a:avLst>
                <a:gd name="adj1" fmla="val 42083"/>
                <a:gd name="adj2" fmla="val 55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40360" y="4581360"/>
              <a:ext cx="28767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MW 50 GeV 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36360" y="5945040"/>
              <a:ext cx="241920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CP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9280" y="525924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98920" y="556416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d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-28800" y="2492280"/>
              <a:ext cx="2908800" cy="825480"/>
            </a:xfrm>
            <a:prstGeom prst="rect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Super-K: 50 k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Comic Sans MS"/>
                </a:rPr>
                <a:t>Water Cherenkov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B45C-E8F6-43BB-9E94-BCA0EBD4D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93080" cy="654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tatus of Hyper-K Planning and R&amp;D</a:t>
            </a:r>
            <a:endParaRPr b="0" lang="en-US" sz="3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099200" cy="62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te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Tochibora mine has been selected.  Overburden 600 – 700 m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vity design and excavation studies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win cavities preferred; FEA in progress; Geological survey and boring core studies made with existing data;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in situ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measurement of initial rock stress yet to be done; direct exploration boring and geo-survey tunneling at the candidate site needed, etc.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 tank and PMT support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nceptual design started, but progress is slow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herical HPD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5-inch prototype tested, 13-inch prototype test in progress.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listic cost estimation: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Yet to be done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udy trade-off between physics capabilities and photocoverage (i.e., cost):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Partly done for p</a:t>
            </a:r>
            <a:r>
              <a:rPr b="0" lang="ja-JP" sz="2000" spc="-1" strike="noStrike">
                <a:solidFill>
                  <a:srgbClr val="0000cc"/>
                </a:solidFill>
                <a:latin typeface="Comic Sans MS"/>
              </a:rPr>
              <a:t>→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cc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, but many more studies needed.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732720" y="1413000"/>
            <a:ext cx="2232000" cy="2303280"/>
            <a:chOff x="6732720" y="1413000"/>
            <a:chExt cx="2232000" cy="2303280"/>
          </a:xfrm>
        </p:grpSpPr>
        <p:sp>
          <p:nvSpPr>
            <p:cNvPr id="115" name=""/>
            <p:cNvSpPr/>
            <p:nvPr/>
          </p:nvSpPr>
          <p:spPr>
            <a:xfrm>
              <a:off x="6732720" y="1413000"/>
              <a:ext cx="360360" cy="230328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59760 h 2303280"/>
                <a:gd name="textAreaBottom" fmla="*/ 224352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14"/>
                  </a:lnTo>
                  <a:cubicBezTo>
                    <a:pt x="10800" y="9614"/>
                    <a:pt x="16200" y="10514"/>
                    <a:pt x="21600" y="10514"/>
                  </a:cubicBezTo>
                  <a:cubicBezTo>
                    <a:pt x="16200" y="10514"/>
                    <a:pt x="10800" y="11414"/>
                    <a:pt x="10800" y="123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360" y="2276640"/>
              <a:ext cx="1800360" cy="502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akagaw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308720" y="4653000"/>
            <a:ext cx="1513080" cy="503280"/>
          </a:xfrm>
          <a:prstGeom prst="wedgeRectCallout">
            <a:avLst>
              <a:gd name="adj1" fmla="val -81268"/>
              <a:gd name="adj2" fmla="val -18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734080"/>
            <a:ext cx="1513080" cy="503280"/>
          </a:xfrm>
          <a:prstGeom prst="wedgeRectCallout">
            <a:avLst>
              <a:gd name="adj1" fmla="val -76652"/>
              <a:gd name="adj2" fmla="val 310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oz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40680" y="0"/>
            <a:ext cx="9183960" cy="6858000"/>
            <a:chOff x="-40680" y="0"/>
            <a:chExt cx="9183960" cy="68580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443268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-40680" y="0"/>
              <a:ext cx="9183960" cy="6858000"/>
              <a:chOff x="-40680" y="0"/>
              <a:chExt cx="9183960" cy="6858000"/>
            </a:xfrm>
          </p:grpSpPr>
          <p:pic>
            <p:nvPicPr>
              <p:cNvPr id="12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47000" y="0"/>
                <a:ext cx="479628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-40680" y="237960"/>
                <a:ext cx="3506040" cy="1191240"/>
              </a:xfrm>
              <a:prstGeom prst="rect">
                <a:avLst/>
              </a:prstGeom>
              <a:noFill/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Kamioka Mi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cc"/>
                    </a:solidFill>
                    <a:latin typeface="Comic Sans MS"/>
                  </a:rPr>
                  <a:t>Geological Ma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161640" y="1905120"/>
                <a:ext cx="5699880" cy="947160"/>
                <a:chOff x="161640" y="1905120"/>
                <a:chExt cx="5699880" cy="94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61640" y="1905120"/>
                  <a:ext cx="260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OZUMI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V="1">
                  <a:off x="2360160" y="1905120"/>
                  <a:ext cx="350136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30120" y="3733920"/>
                <a:ext cx="5834880" cy="1523880"/>
                <a:chOff x="330120" y="3733920"/>
                <a:chExt cx="5834880" cy="1523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30120" y="3733920"/>
                  <a:ext cx="29552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TOCHIBORA 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Min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33800" y="4495680"/>
                  <a:ext cx="3031200" cy="762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headEnd len="med" type="oval" w="med"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 Nakamura     NNN05, Aussois, April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377B-3CB0-438E-AE69-9DBCDE2310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4T08:58:05Z</dcterms:created>
  <dc:creator>中村健蔵</dc:creator>
  <dc:description/>
  <dc:language>en-US</dc:language>
  <cp:lastModifiedBy>kenzo</cp:lastModifiedBy>
  <cp:lastPrinted>2002-10-09T11:12:41Z</cp:lastPrinted>
  <dcterms:modified xsi:type="dcterms:W3CDTF">2005-04-07T12:59:02Z</dcterms:modified>
  <cp:revision>114</cp:revision>
  <dc:subject/>
  <dc:title>ｽﾗｲﾄﾞ ﾀｲﾄﾙなし</dc:title>
</cp:coreProperties>
</file>